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gif" ContentType="image/gif"/>
  <Override PartName="/ppt/media/image6.png" ContentType="image/png"/>
  <Override PartName="/ppt/media/image1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1224-CB8B-4FBB-9151-6F5CED896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6C1F-FF01-4AF5-A694-51E6492E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F6CB-80D0-4E24-B7F2-4DC1B28C0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D1B9-486D-408F-A006-DEF78DCBB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7FBE-F6A2-4184-9840-BD98BA7D1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B8B6-AC8E-42BE-858F-2E648847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31EE-D122-4523-A1A5-AACF8875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CD83-50F5-4722-9EA2-2D53889D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2A2C-097C-425D-AA5E-46983EB4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964E-FB7F-4A1D-87FB-C7B86B1F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B970-2A56-48FD-BFCE-F10C5C6A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66BF-FD98-4AF6-9EE5-97FBB3D1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5F77-C638-4BDE-8471-0C82D3A1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E0E0-67AB-4B0A-A14B-2309AD0B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707B-20EA-4274-9953-DB74B569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AFA9-7E81-4950-8268-D1BA2DBEA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3C8B-AD6F-4E8F-8ADD-C3D6E95DF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F7FF-6233-4C4E-9103-20EDBBB3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6196-8447-4B2A-82C2-7A862E0C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7C90-CCA5-4755-A239-3C5EB595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70DD-A7E1-4428-A462-B2EF9CA8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D64A-B53F-4B58-96EA-11DC8A38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6739-10A6-4227-A1DB-3011E9C9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BFE5-512E-4ED3-9769-215049DE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6699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3399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33cc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4725-0196-4CEB-B3BB-49C0824B79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6699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773C-0439-4F9B-A2FF-217C389FAF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ccff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332000" y="1844640"/>
            <a:ext cx="6296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 Днём независимости России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219640" y="2852640"/>
            <a:ext cx="2360520" cy="2330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84360" y="549360"/>
            <a:ext cx="2173320" cy="1631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3324240" cy="3809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5580000" y="4365720"/>
            <a:ext cx="14191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осс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050920" y="620640"/>
            <a:ext cx="44769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удьте Независимы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3824280" y="3103560"/>
            <a:ext cx="14954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скв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43516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042920" y="836640"/>
            <a:ext cx="614700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усть Вас обласкает Космос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32000" y="2205000"/>
            <a:ext cx="3047760" cy="3627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6443640" y="4005360"/>
            <a:ext cx="1333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луг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2553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76360" y="2708280"/>
            <a:ext cx="2173320" cy="2749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476360" y="692280"/>
            <a:ext cx="5200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усть зоркостью наделит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859280" y="4365720"/>
            <a:ext cx="9810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рёл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62863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2028960" cy="2571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1403280" y="692280"/>
            <a:ext cx="4486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усть древне-русский лого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564000" y="1916280"/>
            <a:ext cx="423864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 жизни вас хранит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780000" y="4221000"/>
            <a:ext cx="17049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уздал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475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87280" y="836640"/>
            <a:ext cx="492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усть будете вы богаты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87280" y="2708280"/>
            <a:ext cx="2619720" cy="2095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859280" y="4076640"/>
            <a:ext cx="16002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юм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88988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71640" y="2492280"/>
            <a:ext cx="2476440" cy="2948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258920" y="765000"/>
            <a:ext cx="60958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логом пусть будет ваш труд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076720" y="3860640"/>
            <a:ext cx="9050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ул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53800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042920" y="836640"/>
            <a:ext cx="58676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пусть золотые звёзд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16000" y="2492280"/>
            <a:ext cx="2411280" cy="3022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3851280" y="2060640"/>
            <a:ext cx="4248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свои края позовут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932360" y="4581360"/>
            <a:ext cx="17049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агадан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34586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124000" y="836640"/>
            <a:ext cx="38386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будет, б р а т ц ы -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59280" y="1916280"/>
            <a:ext cx="393372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о л ь н и ц а !!!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2666880" cy="3133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5076720" y="4149720"/>
            <a:ext cx="18957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овгород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35520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116000" y="1052640"/>
            <a:ext cx="7143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, разумеется , место под Солнцем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435640" y="4581360"/>
            <a:ext cx="2666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ладивосток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92360" y="2708280"/>
            <a:ext cx="2249280" cy="2295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69685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7:10:55Z</dcterms:created>
  <dc:creator>Света</dc:creator>
  <dc:description/>
  <dc:language>en-US</dc:language>
  <cp:lastModifiedBy>Света</cp:lastModifiedBy>
  <dcterms:modified xsi:type="dcterms:W3CDTF">2011-09-14T12:56:47Z</dcterms:modified>
  <cp:revision>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c0000000000010250600207f5200358026400</vt:lpwstr>
  </property>
</Properties>
</file>